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ECB-08E3-4BD8-A786-8A8E4E0B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8C2-EDF8-4536-9B7A-92DB183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8D2-19CD-415F-8740-06E3459C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E19-540B-451E-84EF-C8D1C2DD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155-C19D-48B6-BE31-E137471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886-D24E-4DD3-9F73-21F7C19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7B4-EA22-4CBA-B13F-04CA881F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8E1-3EA5-48C1-A812-9187EA2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454-617E-4C2E-A90F-9C0A4984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D32-259C-4628-8D57-199CC967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E26-EEC1-4B8B-A05E-00FF52B6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497-6780-4F49-959C-C93B9C8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D6C2-5E59-4365-85D4-C8422CDA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Goudy Old Style"/>
              </a:rPr>
              <a:t>Les Flam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Goudy Old Style"/>
              </a:rPr>
              <a:t>Une journ</a:t>
            </a:r>
            <a:r>
              <a:rPr b="0" lang="en-US" sz="5400" spc="-1" strike="noStrike">
                <a:solidFill>
                  <a:srgbClr val="ff33cc"/>
                </a:solidFill>
                <a:latin typeface="Goudy Old Style"/>
                <a:ea typeface="Arial"/>
              </a:rPr>
              <a:t>ée dans la vie d’un flam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2666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5400000">
            <a:off x="280080" y="176760"/>
            <a:ext cx="1577880" cy="16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6200000">
            <a:off x="7290360" y="4977000"/>
            <a:ext cx="15778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76360" y="19051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ls se peaufin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ls se lavent comme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ç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6534000" cy="3659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341280"/>
            <a:ext cx="7684920" cy="651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 rot="10800000">
            <a:off x="1088640" y="228240"/>
            <a:ext cx="805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94920" y="3962520"/>
            <a:ext cx="6705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ls se couchent avec une jambe dans l’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ls s’endorment debout, sauf s’ils se situent sur le 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œud.  Tous les deux de parents s’assoient sur l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œud d’ œu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91320" cy="325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7360" y="0"/>
            <a:ext cx="2845080" cy="6705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10800000">
            <a:off x="5257440" y="304560"/>
            <a:ext cx="3886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2362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ls se trouvent dans les habitats tropicaux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105160" cy="339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62480" cy="4925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0800000">
            <a:off x="3881520" y="2922480"/>
            <a:ext cx="52624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440" y="22860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Goudy Old Style"/>
              </a:rPr>
              <a:t>Les flamants se r</a:t>
            </a:r>
            <a:r>
              <a:rPr b="0" lang="en-US" sz="4000" spc="-1" strike="noStrike">
                <a:solidFill>
                  <a:srgbClr val="ff33cc"/>
                </a:solidFill>
                <a:latin typeface="Goudy Old Style"/>
                <a:ea typeface="Arial"/>
              </a:rPr>
              <a:t>éveillent le mat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4724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 flamants prennent un bain. Ils baignent leurs jeunes flam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34340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25780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0800000">
            <a:off x="2333520" y="681120"/>
            <a:ext cx="68104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76520" y="43430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ur se baigner,les flamants se lavent dans un bain de bo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1500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10800000">
            <a:off x="1914480" y="0"/>
            <a:ext cx="7229520" cy="635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501948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47920" y="3962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lus tard ils mangent des plantes, de l’agae bleu-vert, et des crevet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181480" cy="3485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1143000" cy="843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284400">
            <a:off x="228600" y="228600"/>
            <a:ext cx="2755800" cy="5715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flipH="1" rot="5400000">
            <a:off x="4578840" y="2040120"/>
            <a:ext cx="203364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4191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pr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Arial"/>
              </a:rPr>
              <a:t>ès qu’ils ont pris leur petit-déjeuner, ils donnent à manger aux pet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343400" cy="282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571500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0800000">
            <a:off x="228240" y="0"/>
            <a:ext cx="47242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962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pr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ès l’âge de deux ans, les flamants tournent rose à cause de la couleur des crevet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89560" y="2746440"/>
            <a:ext cx="4654440" cy="411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46483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952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Ils prennent plusieurs pas pour deco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Dans un grand flocon, ils vo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15:53Z</dcterms:created>
  <dc:creator>edill</dc:creator>
  <dc:description/>
  <dc:language>en-US</dc:language>
  <cp:lastModifiedBy>edill</cp:lastModifiedBy>
  <dcterms:modified xsi:type="dcterms:W3CDTF">2012-03-09T18:19:50Z</dcterms:modified>
  <cp:revision>5</cp:revision>
  <dc:subject/>
  <dc:title>Les Flamenco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